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3030-FCEA-40EA-968B-27B174A2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8C3C-7E9E-4362-951B-6A437883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0EF-B009-4AE5-BCAE-126FCE4E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7F57-D88A-4750-9874-B6BD083A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545E-583B-46AB-89E3-B8430125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1DD5-1C50-48D5-BFCE-D7BC0956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3D7D-6237-43B8-8F9C-EF2DF500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B3E0-AA66-4F4D-8F84-4DC16CD9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D7D-7CCE-47EB-8C69-EF52E3EF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EE48-32FB-4E74-9401-EA7388E6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576F-72F6-4A28-8095-87E029BD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AA98-1A3E-4928-854E-BE01D369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EC81-9976-4910-B969-6CBFC1B24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28"/>
          <p:cNvSpPr/>
          <p:nvPr/>
        </p:nvSpPr>
        <p:spPr>
          <a:xfrm>
            <a:off x="4585680" y="594360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ヒラギノ角ゴ Std W4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ヒラギノ角ゴ Std W4"/>
              </a:rPr>
              <a:t>ロゴは原則的に「タテ組」を使用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ヒラギノ角ゴ Std W4"/>
              </a:rPr>
              <a:t>　「ヨコ組」はスペース的な制約等で、「タテ組」が利用できな場合に限り使用可能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32" descr=""/>
          <p:cNvPicPr/>
          <p:nvPr/>
        </p:nvPicPr>
        <p:blipFill>
          <a:blip r:embed="rId1"/>
          <a:stretch/>
        </p:blipFill>
        <p:spPr>
          <a:xfrm>
            <a:off x="1336680" y="4111560"/>
            <a:ext cx="3705120" cy="841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33" descr=""/>
          <p:cNvPicPr/>
          <p:nvPr/>
        </p:nvPicPr>
        <p:blipFill>
          <a:blip r:embed="rId2"/>
          <a:stretch/>
        </p:blipFill>
        <p:spPr>
          <a:xfrm>
            <a:off x="2031840" y="1066680"/>
            <a:ext cx="2313000" cy="16941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34"/>
          <p:cNvSpPr/>
          <p:nvPr/>
        </p:nvSpPr>
        <p:spPr>
          <a:xfrm>
            <a:off x="659880" y="37638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ヒラギノ角ゴ Std W4"/>
              </a:rPr>
              <a:t>ヨコ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35"/>
          <p:cNvSpPr/>
          <p:nvPr/>
        </p:nvSpPr>
        <p:spPr>
          <a:xfrm>
            <a:off x="659880" y="7747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ヒラギノ角ゴ Std W4"/>
              </a:rPr>
              <a:t>タテ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38" descr="w_sym1"/>
          <p:cNvPicPr/>
          <p:nvPr/>
        </p:nvPicPr>
        <p:blipFill>
          <a:blip r:embed="rId3"/>
          <a:stretch/>
        </p:blipFill>
        <p:spPr>
          <a:xfrm>
            <a:off x="6337440" y="1066680"/>
            <a:ext cx="2313000" cy="1694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39" descr="w_sym2"/>
          <p:cNvPicPr/>
          <p:nvPr/>
        </p:nvPicPr>
        <p:blipFill>
          <a:blip r:embed="rId4"/>
          <a:stretch/>
        </p:blipFill>
        <p:spPr>
          <a:xfrm>
            <a:off x="5638680" y="4111560"/>
            <a:ext cx="3711600" cy="841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40"/>
          <p:cNvSpPr/>
          <p:nvPr/>
        </p:nvSpPr>
        <p:spPr>
          <a:xfrm>
            <a:off x="2866680" y="3049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ヒラギノ角ゴ Std W4"/>
              </a:rPr>
              <a:t>背景透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41"/>
          <p:cNvSpPr/>
          <p:nvPr/>
        </p:nvSpPr>
        <p:spPr>
          <a:xfrm>
            <a:off x="7224120" y="3049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ヒラギノ角ゴ Std W4"/>
              </a:rPr>
              <a:t>背景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3:49:23Z</dcterms:created>
  <dc:creator>seiji</dc:creator>
  <dc:description/>
  <dc:language>en-US</dc:language>
  <cp:lastModifiedBy>吉田 汐音</cp:lastModifiedBy>
  <dcterms:modified xsi:type="dcterms:W3CDTF">2023-07-27T05:54:09Z</dcterms:modified>
  <cp:revision>29</cp:revision>
  <dc:subject/>
  <dc:title>PowerPoint プレゼンテーション</dc:title>
</cp:coreProperties>
</file>